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8.jpeg" ContentType="image/jpeg"/>
  <Override PartName="/ppt/media/image9.jpeg" ContentType="image/jpeg"/>
  <Override PartName="/ppt/media/image12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8DC6-3097-45BF-9120-49669897F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A94D-E22E-499A-8BDB-4E5F6FBC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40E9-AC95-4BB1-AE85-162BA0C2A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D5A1-5350-44D6-A928-8D2F0D04E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4580-5E42-4B0B-912F-242D5D99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B7C2-6BAC-4017-B799-EA892150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712F-A810-45B0-9B9D-DFC32C19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D081-9ADF-4148-9A4F-F90D36A9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92F3-82EC-45F2-9226-EA88DB49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F7F4-4B1E-40BC-8117-A184723B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C5A1-AED8-4DCE-8024-44084F22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7B2A-CC65-45E1-8039-76B0344E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3EB3-5FB8-4D02-8AE9-CA6948E43B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a5f9f7"/>
          </a:solidFill>
          <a:ln w="9360">
            <a:solidFill>
              <a:srgbClr val="a5f9f7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ff"/>
                </a:solidFill>
                <a:latin typeface="Arial"/>
              </a:rPr>
              <a:t>КУЛЬТУРНЫЕ</a:t>
            </a:r>
            <a:r>
              <a:rPr b="1" i="1" lang="ru-RU" sz="4400" spc="-1" strike="noStrike">
                <a:solidFill>
                  <a:srgbClr val="ff33cc"/>
                </a:solidFill>
                <a:latin typeface="Arial"/>
              </a:rPr>
              <a:t> РАСТЕНИЯ</a:t>
            </a:r>
            <a:r>
              <a:rPr b="0" i="1" lang="ru-RU" sz="44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13840" y="1600200"/>
            <a:ext cx="8643960" cy="4829040"/>
          </a:xfrm>
          <a:prstGeom prst="rect">
            <a:avLst/>
          </a:prstGeom>
          <a:solidFill>
            <a:srgbClr val="f1fea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Культурные растения - 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существенная часть царства растений. Они произошли от дикорастущих видов .Сортовое богатство культурных растений обусловлено потребностями людей и тем биологическим разнообразием в природе, из которого человек отбирал для себя полезные виды растений, чтобы возделывать их. Человек способствовал расселению культурных растений в разных регионах планеты (часто очень далеких от их центров происхожден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5f9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9900"/>
                </a:solidFill>
                <a:latin typeface="Arial"/>
              </a:rPr>
              <a:t>ТЫК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56000" y="1600200"/>
            <a:ext cx="4330800" cy="452592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Тыква, дико произраставшая в Америке, издавна введена в культуру. В настоящее время имеется много сортов и разновид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CUI_PUMP_Olinka-ready06"/>
          <p:cNvPicPr/>
          <p:nvPr/>
        </p:nvPicPr>
        <p:blipFill>
          <a:blip r:embed="rId1"/>
          <a:stretch/>
        </p:blipFill>
        <p:spPr>
          <a:xfrm>
            <a:off x="755640" y="1844640"/>
            <a:ext cx="331308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ЧТО МЫ УЗНАЛ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ff00ff"/>
                </a:solidFill>
                <a:latin typeface="Arial"/>
              </a:rPr>
              <a:t>Старый и Новый Свет дали человечеству много различных ценных растений для питания, лечения, украшения жилищ, изготовления одежды, красителей, украшений и пр.Вводя в культуру то или иное растение, человек создавал множество новых сортов, менял их свойства по своему усмотр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ff"/>
                </a:solidFill>
                <a:latin typeface="Arial"/>
              </a:rPr>
              <a:t>ВС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95792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ff"/>
                </a:solidFill>
                <a:latin typeface="Arial"/>
              </a:rPr>
              <a:t>Что за культу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Wheat"/>
          <p:cNvPicPr/>
          <p:nvPr/>
        </p:nvPicPr>
        <p:blipFill>
          <a:blip r:embed="rId1"/>
          <a:stretch/>
        </p:blipFill>
        <p:spPr>
          <a:xfrm>
            <a:off x="684360" y="2278080"/>
            <a:ext cx="2160360" cy="3887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potatoes"/>
          <p:cNvPicPr/>
          <p:nvPr/>
        </p:nvPicPr>
        <p:blipFill>
          <a:blip r:embed="rId2"/>
          <a:stretch/>
        </p:blipFill>
        <p:spPr>
          <a:xfrm>
            <a:off x="3059280" y="2278080"/>
            <a:ext cx="2717640" cy="3887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0729185122-web"/>
          <p:cNvPicPr/>
          <p:nvPr/>
        </p:nvPicPr>
        <p:blipFill>
          <a:blip r:embed="rId3"/>
          <a:stretch/>
        </p:blipFill>
        <p:spPr>
          <a:xfrm>
            <a:off x="6012000" y="2278080"/>
            <a:ext cx="2663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ВС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ba3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УЗН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tomat"/>
          <p:cNvPicPr/>
          <p:nvPr/>
        </p:nvPicPr>
        <p:blipFill>
          <a:blip r:embed="rId1"/>
          <a:stretch/>
        </p:blipFill>
        <p:spPr>
          <a:xfrm>
            <a:off x="592200" y="3429000"/>
            <a:ext cx="2539800" cy="254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UI_PUMP_Olinka-ready06"/>
          <p:cNvPicPr/>
          <p:nvPr/>
        </p:nvPicPr>
        <p:blipFill>
          <a:blip r:embed="rId2"/>
          <a:stretch/>
        </p:blipFill>
        <p:spPr>
          <a:xfrm>
            <a:off x="5837400" y="2133720"/>
            <a:ext cx="2695320" cy="3857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banan"/>
          <p:cNvPicPr/>
          <p:nvPr/>
        </p:nvPicPr>
        <p:blipFill>
          <a:blip r:embed="rId3"/>
          <a:stretch/>
        </p:blipFill>
        <p:spPr>
          <a:xfrm>
            <a:off x="3530520" y="1731960"/>
            <a:ext cx="19051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66"/>
                </a:solidFill>
                <a:latin typeface="Arial"/>
              </a:rPr>
              <a:t>ВЫПОЛНИ ЗАДАНИ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Arial"/>
              </a:rPr>
              <a:t>ЗАПОЛНИ ТАБЛ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835280" y="2852640"/>
          <a:ext cx="6913440" cy="2016360"/>
        </p:xfrm>
        <a:graphic>
          <a:graphicData uri="http://schemas.openxmlformats.org/drawingml/2006/table">
            <a:tbl>
              <a:tblPr/>
              <a:tblGrid>
                <a:gridCol w="3638520"/>
                <a:gridCol w="3274920"/>
              </a:tblGrid>
              <a:tr h="99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ЫЙ  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a3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ЫЙ 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a3e2"/>
                    </a:solidFill>
                  </a:tcPr>
                </a:tc>
              </a:tr>
              <a:tr h="102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87" name="Picture 46" descr="j0292020"/>
          <p:cNvPicPr/>
          <p:nvPr/>
        </p:nvPicPr>
        <p:blipFill>
          <a:blip r:embed="rId1"/>
          <a:stretch/>
        </p:blipFill>
        <p:spPr>
          <a:xfrm>
            <a:off x="0" y="3573360"/>
            <a:ext cx="2916360" cy="3024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7" descr="j0195384"/>
          <p:cNvPicPr/>
          <p:nvPr/>
        </p:nvPicPr>
        <p:blipFill>
          <a:blip r:embed="rId2"/>
          <a:stretch/>
        </p:blipFill>
        <p:spPr>
          <a:xfrm>
            <a:off x="7093080" y="1052640"/>
            <a:ext cx="1795320" cy="1833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9" descr="j0195384"/>
          <p:cNvPicPr/>
          <p:nvPr/>
        </p:nvPicPr>
        <p:blipFill>
          <a:blip r:embed="rId3"/>
          <a:stretch/>
        </p:blipFill>
        <p:spPr>
          <a:xfrm>
            <a:off x="5724360" y="486900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</a:rPr>
              <a:t>Вот эти культур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ba3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Картофель, помидоры, кукуруза, капуста, пшеница, рожь, тыква, батат, фасоль, овес, горох, ячмень, черный перец, красный перец, петрушка, укроп, гвоздика, мускатный орех, лавровый лист, горчица, мята, анис, банан, виноград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600200"/>
          <a:ext cx="8229600" cy="4540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3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ТАРЫЙ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ОВЫЙ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Капуста, пшеница, рожь, овес, ячмень, черный перец, петрушка, укроп, гвоздика, мускатный орех, лавровый лист, горчица, мята, анис, банан, виноград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f9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Картофель, помидоры, кукуруза, тыква, батат, фасоль, красный перец, табак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f9f7"/>
                    </a:solidFill>
                  </a:tcPr>
                </a:tc>
              </a:tr>
            </a:tbl>
          </a:graphicData>
        </a:graphic>
      </p:graphicFrame>
      <p:pic>
        <p:nvPicPr>
          <p:cNvPr id="94" name="Picture 25" descr="j0292982"/>
          <p:cNvPicPr/>
          <p:nvPr/>
        </p:nvPicPr>
        <p:blipFill>
          <a:blip r:embed="rId1"/>
          <a:stretch/>
        </p:blipFill>
        <p:spPr>
          <a:xfrm>
            <a:off x="6948360" y="4365720"/>
            <a:ext cx="1714680" cy="16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gradFill rotWithShape="0">
            <a:gsLst>
              <a:gs pos="0">
                <a:srgbClr val="a5f9f7"/>
              </a:gs>
              <a:gs pos="50000">
                <a:srgbClr val="fba3e2"/>
              </a:gs>
              <a:gs pos="100000">
                <a:srgbClr val="a5f9f7"/>
              </a:gs>
            </a:gsLst>
            <a:lin ang="189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л презентацию по биологии раздел БОТА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йся 6А кла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ОСОШ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МИРНОВ НИК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08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cfca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ff"/>
                </a:solidFill>
                <a:latin typeface="Arial"/>
              </a:rPr>
              <a:t>ДАРЫ СТАРОГО С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56760" y="1599840"/>
            <a:ext cx="8572680" cy="4543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25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996600"/>
                </a:solidFill>
                <a:latin typeface="Arial"/>
              </a:rPr>
              <a:t>Дарами Старого Света являются не только хлебные и овощные, но и фруктовые растения, а также те, от которых люди получили многочисленные пряности и приправы (черный перец, мускатный орех, лавровый лист, гвоздика, горчица, петрушка, укроп, мята, анис и т.д.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5f9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cc"/>
                </a:solidFill>
                <a:latin typeface="Arial"/>
              </a:rPr>
              <a:t>ПШЕ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Wheat"/>
          <p:cNvPicPr/>
          <p:nvPr/>
        </p:nvPicPr>
        <p:blipFill>
          <a:blip r:embed="rId1"/>
          <a:stretch/>
        </p:blipFill>
        <p:spPr>
          <a:xfrm>
            <a:off x="539640" y="1628640"/>
            <a:ext cx="3175200" cy="43912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4211640" y="1773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33ff"/>
                </a:solidFill>
                <a:latin typeface="Arial"/>
              </a:rPr>
              <a:t>ПШЕНИЦА- родом из Средиземномор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3780000" y="2565360"/>
            <a:ext cx="47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шеница выращивается двух сортов – твердая и мягкая. Они отличаются по белковому и углеводному составу зерна. Из муки твердой пшеницы – хлеб, макаронные изделия. Тесто из муки мягкой пшеницы рыхлое, легко рвется, но зато из него получаются необычайно вкусные пироги и пшеничная каш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cc"/>
                </a:solidFill>
                <a:latin typeface="Arial"/>
              </a:rPr>
              <a:t>РОЖЬ</a:t>
            </a:r>
            <a:r>
              <a:rPr b="0" i="1" lang="ru-RU" sz="4400" spc="-1" strike="noStrike">
                <a:solidFill>
                  <a:srgbClr val="ff33cc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r-secale"/>
          <p:cNvPicPr/>
          <p:nvPr/>
        </p:nvPicPr>
        <p:blipFill>
          <a:blip r:embed="rId1"/>
          <a:stretch/>
        </p:blipFill>
        <p:spPr>
          <a:xfrm>
            <a:off x="5292720" y="155736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468360" y="2421000"/>
            <a:ext cx="4608360" cy="2562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РОЖЬ впервые попала в культуру земледелия как сорняк пшеницы. Отделить семена сорной ржи от посевной пшеницы было очень трудно. В северных районах пшеница часто погибала на полях, а ее спутница – рожь выживала. Люди питались ее зерном и в конце концов признали ценной культу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ff"/>
                </a:solidFill>
                <a:latin typeface="Arial"/>
              </a:rPr>
              <a:t>ВИНОГР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ba3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Виногр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3116"/>
          <p:cNvPicPr/>
          <p:nvPr/>
        </p:nvPicPr>
        <p:blipFill>
          <a:blip r:embed="rId1"/>
          <a:stretch/>
        </p:blipFill>
        <p:spPr>
          <a:xfrm>
            <a:off x="611280" y="2421000"/>
            <a:ext cx="2727360" cy="3313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3492360" y="2425680"/>
            <a:ext cx="4608720" cy="22885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ВИНОГРАД - вторая после пшеницы культура по древности и распространению. Его родина –Закавказье и Малая Азия. Дикий виноград растет, обвивая высокие деревья .Культурный виноград возделывают в виде кустов, обрезая его ветки – ло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БАНАН - </a:t>
            </a:r>
            <a:r>
              <a:rPr b="1" lang="ru-RU" sz="4000" spc="-1" strike="noStrike">
                <a:solidFill>
                  <a:srgbClr val="66ff33"/>
                </a:solidFill>
                <a:latin typeface="Arial"/>
              </a:rPr>
              <a:t>ГИГАНТСКАЯ ТРА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48000" y="1566360"/>
            <a:ext cx="5796000" cy="45262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cc"/>
                </a:solidFill>
                <a:latin typeface="Arial"/>
              </a:rPr>
              <a:t>БАНАН -</a:t>
            </a:r>
            <a:r>
              <a:rPr b="0" i="1" lang="ru-RU" sz="3200" spc="-1" strike="noStrike">
                <a:solidFill>
                  <a:srgbClr val="9933ff"/>
                </a:solidFill>
                <a:latin typeface="Arial"/>
              </a:rPr>
              <a:t> высокое, иногда гигантское(до 15 м.) травянистое растение с мощным корневищем, упроченным толстым стеблем и ложным стволом, образованным огромными влагалищами крупных листь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banan"/>
          <p:cNvPicPr/>
          <p:nvPr/>
        </p:nvPicPr>
        <p:blipFill>
          <a:blip r:embed="rId1"/>
          <a:stretch/>
        </p:blipFill>
        <p:spPr>
          <a:xfrm>
            <a:off x="108000" y="1557360"/>
            <a:ext cx="338436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6d7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ff"/>
                </a:solidFill>
                <a:latin typeface="Arial"/>
              </a:rPr>
              <a:t>ДАРЫ НОВОГО С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525920"/>
          </a:xfrm>
          <a:prstGeom prst="rect">
            <a:avLst/>
          </a:prstGeom>
          <a:solidFill>
            <a:srgbClr val="e1ddb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В Евразию, Африку завезены такие ценные растения: картофель, кукуруза, тыква, батат, фасоль, какао и томаты (или помидор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MCj04102030000[1]"/>
          <p:cNvPicPr/>
          <p:nvPr/>
        </p:nvPicPr>
        <p:blipFill>
          <a:blip r:embed="rId1"/>
          <a:stretch/>
        </p:blipFill>
        <p:spPr>
          <a:xfrm>
            <a:off x="4500720" y="3716280"/>
            <a:ext cx="4298760" cy="31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7c7d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66"/>
                </a:solidFill>
                <a:latin typeface="Arial"/>
              </a:rPr>
              <a:t>КАРТОФ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9120" y="1412640"/>
            <a:ext cx="8229600" cy="4957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рудно представить, но всего 250 лет назад в России еще никто не употреблял в пищу картофель. Предки американских индейцев много веков назад на плоскогорь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otatoes"/>
          <p:cNvPicPr/>
          <p:nvPr/>
        </p:nvPicPr>
        <p:blipFill>
          <a:blip r:embed="rId1"/>
          <a:stretch/>
        </p:blipFill>
        <p:spPr>
          <a:xfrm>
            <a:off x="5651640" y="4149720"/>
            <a:ext cx="2717640" cy="16509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755640" y="4149720"/>
            <a:ext cx="4680000" cy="1739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Анд нашли клубни дикого картофеля. Они называли его «папас». Дикий картофель имел мелкие клубни, но когда человек стал его возделывать как культурное растение- клубни его стали намного крупн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ТОМ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2204640"/>
            <a:ext cx="5004000" cy="4032360"/>
          </a:xfrm>
          <a:prstGeom prst="rect">
            <a:avLst/>
          </a:prstGeom>
          <a:solidFill>
            <a:srgbClr val="a5f9f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ТОМАТЫ в диком виде обитают на Тихоокеанском побережье Южной Америки и на Галапагосских остров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tomat"/>
          <p:cNvPicPr/>
          <p:nvPr/>
        </p:nvPicPr>
        <p:blipFill>
          <a:blip r:embed="rId1"/>
          <a:stretch/>
        </p:blipFill>
        <p:spPr>
          <a:xfrm>
            <a:off x="5613480" y="2205000"/>
            <a:ext cx="306216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05:03:59Z</dcterms:created>
  <dc:creator>Тропина Елена Ивановна</dc:creator>
  <dc:description/>
  <dc:language>en-US</dc:language>
  <cp:lastModifiedBy>Александр</cp:lastModifiedBy>
  <dcterms:modified xsi:type="dcterms:W3CDTF">2012-03-19T15:33:32Z</dcterms:modified>
  <cp:revision>23</cp:revision>
  <dc:subject>Курсы КПК</dc:subject>
  <dc:title>Дары Старого и Нового света</dc:title>
</cp:coreProperties>
</file>